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904-E31C-4C89-A2E6-1A08CE36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7BE-AADE-49B6-B0A4-03D107F8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B0D-35E5-4ED1-B3DE-0A960768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3A2-9381-4BC3-85BF-2D4448FF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571F-0937-45E4-8041-78C1D40C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39CB-F1AE-455E-A0B4-3F16F1F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6D03-331E-4857-A529-810ADD0B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EE8A-2272-4F16-8EB7-FC9D0CE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8161-C588-4EC8-9EF3-6A7FD8F8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1B7-91FE-40B3-94C0-81032D3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21BD-05A1-420D-B455-842DA7FA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A4B-F15D-424F-BB80-9D79377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B5B0-3FA7-4C88-A83A-D206219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E8D-3DCE-4FFE-A366-69B4DC6B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D36-D471-41CF-9B29-243CE3FC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903C-1BEA-4BFB-B5CB-C3276CFA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A23-19DC-4814-9FA9-0E7B5A3B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08B-50A8-4AAF-A714-D24AAAC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93D-6B95-4FA7-B2B8-16D51EE0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782-6B5A-4FFC-894F-D5C1860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5C0-8C84-454A-9A20-5313DB7E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CA0-2F56-4C59-AA0F-46D98D53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B7F-29D4-4ED8-8FB0-E2DE4E5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A28-D895-4276-8D95-238A0C0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4689-BD3D-42CC-ACC4-D464DFBBE5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542-7596-4353-910C-DB51C6BF3F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Publications/Journals/Journals Listing.doc" TargetMode="External"/><Relationship Id="rId2" Type="http://schemas.openxmlformats.org/officeDocument/2006/relationships/hyperlink" Target="../../../Publications/Journals/Target Journals and Articles to be Reviewed.doc" TargetMode="External"/><Relationship Id="rId3" Type="http://schemas.openxmlformats.org/officeDocument/2006/relationships/hyperlink" Target="../../../Publications/Journals/Journal of Technology Education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A Good Research Thesis Framework.pdf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../Paper Review/121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hyperlink" Target="Instuction to Select a Researh Topic.pdf" TargetMode="External"/><Relationship Id="rId3" Type="http://schemas.openxmlformats.org/officeDocument/2006/relationships/hyperlink" Target="Research Guide.pdf" TargetMode="External"/><Relationship Id="rId4" Type="http://schemas.openxmlformats.org/officeDocument/2006/relationships/hyperlink" Target="Web Guide to Start Searching for Research Topics.pdf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Method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survey of literature on a topic and its application to a local scenario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Notes on Research Topic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e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with extensive literature survey on a topic and its expansion to provide incremental addition to knowledgebase may also be consider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Undergraduate Project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literature survey based project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Using the Areas of Strength to Select a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Literature comprehensio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mportance of Literature Survey in Finalizing the Research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n extensive literature survey is important to fine tune the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ttp://www.amazon.com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Purpos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utline the steps that may be followed to select and conduct a final year applied or research projec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vide suggestions on an approach to write the project report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es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, if available, can be exceptionally useful in finding related research work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monstration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verview of the research proces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literature surve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Final Sugges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help in applying the theory learned in the cours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has some practical valu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be of interest to others as wel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btain and retain copies of all related material obtained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cus on selecting a good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Overview of Research Proces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a general idea of the research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ad scholarly papers to refine and define th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dentify the research community currently involved in research under the sam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and the research theme and write an initial outline paper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vise the paper and define clearly the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mplement the chosen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feren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Repo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view of sample repor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ing the 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itial writing of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echniqu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ining the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Some Resources for Getting Started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4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ploring a Research Topic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9-11T21:47:01Z</dcterms:modified>
  <cp:revision>42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